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1C6-2C1B-4562-B238-FB4928F5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EE4-879F-4850-AAB1-204A1CE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644-6399-4CD4-9EBC-C069F5A2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371-0F01-4523-A75C-F47C1E95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8A49-24E4-4B13-899E-91FCA668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D2F5-9E66-4255-81DE-CA6F5476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BCA8-39A9-48D6-B6E9-2CCAB8A8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C060-9138-44BF-A10A-36D7C1E1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0E98-B4C4-4677-8E3F-E34D3689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9BB2-7282-438F-AC3B-ECCC6FEB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95C6-F614-45A1-93FB-553B7FC5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A7A-D819-4171-827B-69111BA4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07F3-5C27-42DA-B920-86034496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482B-5D68-4197-BA1B-5F8D1EC3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EB8E-03B2-4880-9467-9129B6DE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DF8A-7CB7-4EAF-BD3C-48A310DD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5A86-01C9-4586-9EB0-D4892EC4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8C5-5C08-4BF6-9767-D6E4289B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96E-E8F8-4845-9DA2-4D64850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3EE-CF31-4E91-92D0-AE399A8A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8B9-049E-4331-9EE0-C2F5E6AD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FA5-0E0C-4D53-AFA5-7FBA9BC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33F-4477-4ACA-9FDC-3FA338E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B64-BC24-4248-8AAA-FAF0ECF2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2f7d"/>
            </a:gs>
            <a:gs pos="100000">
              <a:srgbClr val="466d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C536-21E8-4AC0-99A7-DECFA02C9607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2f7d"/>
            </a:gs>
            <a:gs pos="100000">
              <a:srgbClr val="466d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4880"/>
              <a:ext cx="1101600" cy="1099080"/>
              <a:chOff x="5261040" y="1424880"/>
              <a:chExt cx="1101600" cy="109908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4880"/>
                <a:ext cx="11016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440" y="1601640"/>
                <a:ext cx="75024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401120"/>
              <a:ext cx="851400" cy="844920"/>
              <a:chOff x="5427720" y="1401120"/>
              <a:chExt cx="851400" cy="84492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401120"/>
                <a:ext cx="85140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120" y="1540800"/>
                <a:ext cx="573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8040"/>
              <a:ext cx="631080" cy="626400"/>
              <a:chOff x="5040360" y="1868040"/>
              <a:chExt cx="631080" cy="62640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8040"/>
                <a:ext cx="63108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6400"/>
                <a:ext cx="4158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91360"/>
              <a:ext cx="518040" cy="514080"/>
              <a:chOff x="5207400" y="1791360"/>
              <a:chExt cx="518040" cy="5140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91360"/>
                <a:ext cx="51804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9920"/>
                <a:ext cx="338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51280"/>
              <a:ext cx="297720" cy="295200"/>
              <a:chOff x="4516560" y="2051280"/>
              <a:chExt cx="297720" cy="29520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51280"/>
                <a:ext cx="2977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6320" y="21103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5200"/>
              <a:chOff x="5898240" y="993600"/>
              <a:chExt cx="291600" cy="29520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200" y="10537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8040"/>
              <a:ext cx="237960" cy="236160"/>
              <a:chOff x="4849920" y="1868040"/>
              <a:chExt cx="237960" cy="23616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8040"/>
                <a:ext cx="23796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64520"/>
              <a:ext cx="232200" cy="230400"/>
              <a:chOff x="5916240" y="1064520"/>
              <a:chExt cx="232200" cy="23040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64520"/>
                <a:ext cx="2322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480" y="111060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57BF-5175-47DC-965A-BB4DB7C97757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828800" y="544680"/>
            <a:ext cx="5486400" cy="4140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55160" y="4038480"/>
            <a:ext cx="71168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ycles of Matt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ARBO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s take in carbon dioxide gas from the air during PHOTOSYNTH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carbon from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make food (sugars &amp; starch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m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at producers and take in the C-containing food molecules and break the food dow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duce &amp; release water &amp;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as wast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omposers break down producers &amp; consumers when they die &amp; return carbon to the so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OXYGE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s release oxygen as a result of PHOTOSYNTH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rganisms take in oxygen from the air and use it to carry out lots of processes – ex: CELLULAR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UMAN IMPAC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90360" y="1371240"/>
            <a:ext cx="71247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humans burn oil, coal and other fuels, carbon dioxide is released into the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humans clear forests for lumber, fuel and farmland, carbon dioxide levels also rise. Wh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is the impact of all the carbon dioxide in the atmospher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ITROGE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09800" y="1599840"/>
            <a:ext cx="7124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trogen moves from the air to the soil, into living things and back into the 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r is 78% nitrogen BUT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blem: Living organisms cannot use nitrogen gas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lution: NITROGEN FIX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ITROGE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09800" y="1599840"/>
            <a:ext cx="71244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trogen Fixation = process of changing free nitrogen into a usable form of nitro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ed by certain kinds of bacte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teria live in nodules on the roots of plants – specifically legumes - MUTUAL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umes = clover, beans, peas, alfalfa, peanu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ITROGE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09800" y="1447920"/>
            <a:ext cx="71244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ce nitrogen is fixed, producers use it to build proteins &amp; other complex compou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omposers break down nitrogen compounds from dead organisms &amp; animal waste return simple nitrogen compounds to so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teria break down nitrogen compounds to nitrogen gas that gets released into the 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466560" y="380880"/>
            <a:ext cx="8006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cycling of Ca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66320" y="1066680"/>
            <a:ext cx="7124760" cy="31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uminum, copper, iron recycled from old c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th has a limited supply of these materi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4038480" y="3338640"/>
            <a:ext cx="44960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arth also Recycles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4475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amount of matter in an eco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st like the limited amount of metal to build c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ter in an ecosystem must be recycled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ater Cyc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arbon &amp; Oxygen Cycl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itrogen Cyc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WATER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09800" y="1599840"/>
            <a:ext cx="7124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inuous process by which water moves from Earth’s surface to the atmosphere and ba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 cycle includ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apor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dens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ecip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WATER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09800" y="1523520"/>
            <a:ext cx="7124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AP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cess by which molecules of liquid water absorb energy and change to a ga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quid water evaporates from oceans, lakes, etc and forms water vapor (a ga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ater vapor released from leaves on plants (transpiration) and humans when we breat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WATER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009800" y="1523520"/>
            <a:ext cx="7124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cess by which a gas changes to a liqui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 water vapors rises in the atmosphere, it coo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cooled water vapor turns back into tiny droplets of wat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ater droplets collect around particles of dust, which forms cloud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WATER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009800" y="1523520"/>
            <a:ext cx="7124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CIP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xamples: rain, snow, sleet, hai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 more water vapor condenses, the drops of water in the clouds grow larg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eavy drops fall back to Earth as precip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ecipitation falls into oceans, lakes, or soaks into soil to become groundwat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1295280" y="473040"/>
            <a:ext cx="637092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ARBON &amp; OXYGEN CYC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90360" y="1219320"/>
            <a:ext cx="7124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bon &amp; oxygen cycles are linked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s, consumers &amp; decomposers all play ro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1143000" y="2754360"/>
            <a:ext cx="65977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22:55:37Z</dcterms:created>
  <dc:creator>Builder</dc:creator>
  <dc:description/>
  <dc:language>en-US</dc:language>
  <cp:lastModifiedBy>Builder</cp:lastModifiedBy>
  <dcterms:modified xsi:type="dcterms:W3CDTF">2013-03-19T17:43:21Z</dcterms:modified>
  <cp:revision>8</cp:revision>
  <dc:subject/>
  <dc:title>Cycles of Matter</dc:title>
</cp:coreProperties>
</file>